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4D6259-D2DA-44F8-BF90-225C3F1DF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A2BC48-34C1-421F-9FEA-4BD09C6E55E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A746-F0B9-4794-BAB5-4C0BFB41A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6FE2-9CEC-4C0C-A02C-3349ED25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3D09-F27B-4176-A406-7889EEA2D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4D2E-0556-4CCC-9A0B-E18E646C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3E01-21D9-4082-B665-D280C52EF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026E-3D62-404F-8E0C-BC7A61B6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70D1-15E5-4FE9-8B00-E20D8BEA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ADC3-5B4F-4709-B0C4-726B1AD7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ECB8-8214-43F4-989E-1EFA4D1F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9BF4-9EBC-4E75-BD46-22AE0BDC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2BDC-F345-4A78-B8CE-013CE4AC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280E-7A7B-4C8D-91D7-8FAB21CC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F06D-2BF2-4B96-B8B4-84FB1410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F85F-9AA0-4C0A-AE8C-6A7D07E5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D76C-B2F5-4B9A-A700-E4F5C355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D28A-54EC-4E96-9941-ACBE09522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FDC4-2D74-4F59-8FE5-04CB989B6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2C22-796F-4359-9877-6D2C83D1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4DEA-0290-4514-B934-A9B2293C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33DE-1656-482D-9156-95486A1B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0D87-0158-4101-AA31-B79EF138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3BCF-54C6-4DBF-8754-96F93CCF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BED3-ACA9-4ABB-9583-1A21C120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5B15-FC8D-432D-A49F-5DC2C67F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CA" sz="4800" spc="-1" strike="noStrike" cap="all">
                <a:solidFill>
                  <a:srgbClr val="000000"/>
                </a:solidFill>
                <a:latin typeface="Lucida Sans"/>
              </a:rPr>
              <a:t>Click to edit Master title style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08389C-6A7F-4340-BB24-AFE1320479B6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CA" sz="4100" spc="-1" strike="noStrike">
                <a:solidFill>
                  <a:srgbClr val="000000"/>
                </a:solidFill>
                <a:latin typeface="Lucida Sans"/>
              </a:rPr>
              <a:t>Click to edit Master title styl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CA" sz="28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CA" sz="24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CA" sz="22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CA" sz="20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CA" sz="20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2638B0-33E7-48A0-A44E-FFB1C81D3F6F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 cap="all">
                <a:solidFill>
                  <a:srgbClr val="000000"/>
                </a:solidFill>
                <a:latin typeface="Lucida Sans"/>
              </a:rPr>
              <a:t>Spreadsheets Continued…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22520" y="502920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indent="0" algn="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A: Shreya Raw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mail: srawal@ucalgary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omponents of If-Else statement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ogic Condi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rue Statem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alse Statem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Syntax of If-Else statement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= IF(&lt;logic statement&gt;, &lt;true statement&gt;,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&lt;false statement&gt;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Example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64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= IF(A2&lt;50, “Fail”, “Pass”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64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= IF(A1&lt;50, “Fail, IF(A1&gt;80, “A”, “B”)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Note: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64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statement can correspond to a number, or a string of characters by using double quotation marks (e.g. "yes", "true", "evaluation if false", etc.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Example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= IF(A1&lt;50, “Fail”, “Pass”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1 = 88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Pas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1 = 4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Fai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1 = 5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Pas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F (A1&lt;50, “Fail”, IF(A1&gt;80, “A Grade”, B Grade”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1 = 88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A Grad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1 = 4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Fai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1 = 5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B Grad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More Examples: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F (G2 = “Cat”, “Kitten”, (IF G2 = “Dog”,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Puppy”, “Small Mammal”)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2 = Ca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Kitte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2 = Dog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Pupp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2 = Ba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Small Mamma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2 = Mous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Small Mamma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Pivot Table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48640" indent="-411480">
              <a:lnSpc>
                <a:spcPct val="100000"/>
              </a:lnSpc>
              <a:spcBef>
                <a:spcPts val="64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ivot tables provide a mechanism to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ummarize dat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akes it easier to analyz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akes it easier to present dat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Exampl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619760" cy="38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Pivot Tabl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391160" cy="36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Killer Example: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F (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A1 = “Bed”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IF (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A2 = “Sofa”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“You have sofa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d bed”, IF (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A3 = “Chair”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“You chair and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ed”, “You have bed but not chair or sofa”)),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you do not have anything”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1 = Bed, A2 = Sofa, A3 = Tab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You have sofa and b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1 = Bed, A2 = Table, A3 = Chai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You have chair and b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ustom Claculation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custom calculation use the data associated with cells in a single worksheet, or across multiple worksheet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custom calculation is specified in the function toolba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= (A1 + A2 – E3 * B12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= (P * N * R)/100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here P, N, R can be cell values representing  Principal Amount, Number of Years and Rate of Interest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ustom Calculations… (conti)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refer cell or data in same workshee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is referred as column and row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g: A12, E5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refer cell data from different workshee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is referred as sheet name, exclamation point (‘!’), and cell reference (F12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g: Sheet2!F5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6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Steps to perform a custom calculation: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2080" indent="-3988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ep 1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42400" indent="-274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lect the cell in which you would like the evaluation of the custom calculation to be displayed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32080" indent="-3988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ep 2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42400" indent="-274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 the Function toolbar, enter the custom calculation by starting with the equals symbol '='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32080" indent="-3988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ep 3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42400" indent="-274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fter entering the custom calculation, press the 'enter' key to evaluate the function. The result will appear in the cell that was originally selected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Note: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custom calculation can also include functions which are bundled with Excel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8686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= (SUM(A5:A10) * 50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8686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= (AVERAGE(A22:A56) / COUNT(A22:A56)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Understanding If-Then statement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 If-Then statement answers the question "is this true or false?" and then performs a corresponding action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Exampl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64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f </a:t>
            </a:r>
            <a:r>
              <a:rPr b="0" lang="en-US" sz="3200" spc="-1" strike="noStrike">
                <a:solidFill>
                  <a:srgbClr val="ff0000"/>
                </a:solidFill>
                <a:latin typeface="Book Antiqua"/>
              </a:rPr>
              <a:t>it snow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868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 will not go to schoo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868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ls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868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 will go to schoo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Exampl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48640" indent="-411480">
              <a:lnSpc>
                <a:spcPct val="100000"/>
              </a:lnSpc>
              <a:spcBef>
                <a:spcPts val="64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f </a:t>
            </a:r>
            <a:r>
              <a:rPr b="0" lang="en-US" sz="3200" spc="-1" strike="noStrike">
                <a:solidFill>
                  <a:srgbClr val="ff0000"/>
                </a:solidFill>
                <a:latin typeface="Book Antiqua"/>
              </a:rPr>
              <a:t>it snow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868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 will go to gym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868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lse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868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f </a:t>
            </a:r>
            <a:r>
              <a:rPr b="0" lang="en-US" sz="3200" spc="-1" strike="noStrike">
                <a:solidFill>
                  <a:srgbClr val="ff0000"/>
                </a:solidFill>
                <a:latin typeface="Book Antiqua"/>
              </a:rPr>
              <a:t>temperature &lt; -25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868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 will stay at hom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868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ls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868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 will go to schoo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Note: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64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n nested If-Then statements, evaluations of inner-most statements occur first, and their evaluations are propagated to the outer-most statement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pex.thmx</Template>
  <TotalTime>104</TotalTime>
  <Application>LibreOffice/7.4.7.2$Linux_X86_64 LibreOffice_project/40$Build-2</Application>
  <AppVersion>15.0000</AppVersion>
  <Words>760</Words>
  <Paragraphs>99</Paragraphs>
  <Company>University of Calgar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9:26:32Z</dcterms:created>
  <dc:creator>Shreya Rawal</dc:creator>
  <dc:description/>
  <dc:language>en-US</dc:language>
  <cp:lastModifiedBy>Shreya Rawal</cp:lastModifiedBy>
  <dcterms:modified xsi:type="dcterms:W3CDTF">2009-01-21T19:36:04Z</dcterms:modified>
  <cp:revision>8</cp:revision>
  <dc:subject/>
  <dc:title>Spreadsheets Continued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19</vt:r8>
  </property>
</Properties>
</file>